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8CE-66CA-4E90-8E47-0275F526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C48-BD29-4B8B-8EBC-DECAF0C9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FF9E1-5CFE-4881-97AA-3CBEF545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7AD78-F0E8-461D-A4B6-8A6E9CD5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FCE16-FB8C-44D9-AB81-EC99A0D1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FDCBA-9A9D-45AA-911B-6EBD5C72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9C83C-AA59-4D02-A45F-F7694549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3C3D3-91AD-40B2-AA35-19075545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AD5C6-9CB7-4036-93EE-420921FD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125B5-A861-4CB5-9197-07732598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15156-611A-4DFB-938D-A62D200A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8E618-329F-4B57-B41A-0BBDCCFA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5ED-55AA-4271-87ED-746AE331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19604-45D5-4F7F-A8B3-29525DE0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3BC95-5336-4306-9971-2458F0A2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440F5-D6C6-4BF2-BB56-DD9FE337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9DE50-5CC4-45AF-8AD0-ECCC20D0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1E9A1-D8D7-4DDB-B8B7-80D7552A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18BA6-0829-4A58-81C0-AF65254F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90BCA-6DBC-4446-BFBA-11059D10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A7999-B44A-444B-A302-8AF8DA8B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6E6CE-BB64-4498-B7AA-6AA9A9DF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D5013-08B8-4797-8887-FD59EC95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BA1-6B97-4149-A042-AFB342EA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7D84C-3C51-4F73-9B3F-A1D3724C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4CB8A-A02E-41B4-918E-826F75DF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6D28A-B030-49D8-A213-58FEC9C8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8066B-1EA3-4342-8AF5-CADEE570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3CCCA-9B1E-482C-BF83-6792B6AD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67EB9-467D-4013-92BC-222C62C0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C8D61-F620-4A1A-8EAB-BBD62680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92F2F-80E9-40CF-9A81-53B38B25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62223-0FA9-41A9-99D6-90BE073F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48552-18CA-4B61-9BCC-8E99DC5C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95F6-9377-4491-8317-50A86C13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9500F-05CE-49A2-9863-E852BAB1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1E87F-DB49-4B2D-9A0B-5242F645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6B844-1716-4E28-9125-58D3E28D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E92C1-E14A-45C1-848F-BC18CBD5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28298-09FD-4A30-B481-E99CBFC1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DC203-5126-4CE7-920A-DF5F7B41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E6A60-47F9-48E5-989C-5CAB80AB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6D982-421A-4CAE-8207-D2BCAC7F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28010-A4AC-4144-977A-34319386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16531-CA98-4627-8FB6-B0BF914A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5BBE-AE49-461E-B4EF-23FE3D6E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4023C-F1B7-4759-9FF6-513559BD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BE16E-946A-4954-AEE9-A7B95FD7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41D6C-C9A6-4176-948C-87201AD7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54E7D-0A69-4723-9DC6-2C183CE9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7DD3D-7314-490F-B08C-C70B9DE0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29683-8DCC-4A20-A82E-1E889098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02704-C6B6-4C7D-BF78-0CE10DEA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45AB97-1461-4BD2-AE3F-EFF3AF19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BD71A-3F81-4B82-977E-76C90E9C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FED3B-10FA-4BF1-B0FA-B5BB54C7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43F1-96E5-4FAD-B939-FBDFEC41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96FF3-592B-440C-959E-21F83824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445FF-9C2A-42BC-9377-3462668C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A56AB-E8A8-4D9F-A265-9354A24B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17A18-53C4-4DA5-9B4D-84D68F3C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EC138-068D-4303-929F-2480ED88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881FC-30D3-499F-805B-BAFB6C21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CFCE3-33E9-44FB-A0C9-5E1F11B9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C0D9A-E6A0-4D3C-ADF7-3F289CD3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39F72-93DC-4827-AADD-A32F20C5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88D404-54C1-45C5-B33F-94C0392C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D44A-B4F9-460D-BDD2-1D4A1153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39EE23-B735-4EC8-BAF7-42D826DF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966A1-F97B-4083-B235-A1114E35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8D587-3357-4F50-A83D-A5163F32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B08FF-E053-47C4-9F1F-FF3CDEFE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256F42-C8DB-43A6-84E6-638688BD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A957CC-B784-4904-A909-19D2C15F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C91F7A-8034-4E7A-BD6E-8F233B9A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F93F2-48E6-48ED-9208-1B8A7B4D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5BCB2-1E83-41E6-BE24-E5E454A8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96FF79-28B6-45E6-8671-DB64FE3E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DE3F-EE36-42A2-875A-D3A7288B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2FF8F7-F661-4634-B5EA-1ADB745C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F4035-032D-4264-911F-EA99B697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747C5-2493-4FC2-B910-CFB216F4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B9866F-7C42-4AC7-A822-CE9F006B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F933A9-43D4-49DE-859D-8DEFC269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600BB-510E-40B5-8B12-6C42CC01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7CB8CE-E153-436B-B99D-D8009A5E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F9115A-6A65-434C-B88A-82B54163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58665F-456E-48BA-ADCC-8130F574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F2F82F-6F29-40D7-BB56-19EF3293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6AF8-A313-4793-9600-FD3E4F7B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B4BE7A-4D9C-46D2-BAF0-BC40AEE5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476E68-FF82-47E7-8E0B-A6F95FEC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8E0482-C50C-469A-9002-9079FD8C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0FAE99-E8C0-48FC-ADFD-7AEE6E65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08C5A6-8F6A-423B-9836-10ABB220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2EAA4-3F7A-484D-9CA9-A2B52043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87DF8E-C8A0-4471-BFCF-06690015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36E59-0C6D-44F7-8562-B9524B8C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181CE-C340-46E0-9F35-04A225FC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041B3-6A89-455B-954E-8093662B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3423-F475-4FB2-A967-686D383C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2C39D1-0AAC-47E0-812B-E3A2494F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2D73D-FF9E-4AA2-A6B3-BE40AAFC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89D94-6B78-41A4-BADC-BB94F8C0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D39355-83E2-4852-8EE9-15387677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BD2657-7F2B-4AAA-94DE-932D02BD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525705-D981-439A-82F7-ED01BB70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2B9C0-43D1-4B2A-B662-1E94076D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3E552-F5E0-4822-AB8F-003EB128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7D9105-2DCA-4EED-80FB-C655A84E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E861F-33B3-498D-A574-D65D0286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F59-3825-4BF5-B903-98D393E6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D94F-76A7-491F-A3F9-938C5BDC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C160C0-FA39-4864-92ED-5CB7183B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11348B-0E02-4D6C-A01F-86981799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83458F-821F-4003-9C68-913950D0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3C590-FBD6-4996-BC6E-12C9E93D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6B380-3BC1-4909-9B9D-32CC417C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3D1C4B-84E2-4074-85A7-F538AF81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6F8311-ABE6-4BAA-9DAA-A06DC0B3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6AFCBF-5255-478B-872E-667A2217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F7AC3A-5735-4DD4-9726-1A76CBEF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AC53B7-3635-4BA9-AD68-40778D74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3078-0F18-4863-9E60-7F445280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D7A3CC-61D2-49E2-9E9C-4E3165D6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273A59-7067-4000-A5CD-74DDADEF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2B1EF6-685D-40AD-9941-B33E0DA0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1BFE15-DCE1-4EC8-8A5F-CFC08628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08F474-1E7F-4EA7-9C9A-7B509418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F15E48-0DE6-45D6-B578-D6C9DFC1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13D49C-C40E-47DB-909E-CCF65A3F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A72055-BD44-42B2-81A2-32B7AA4F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B73EEB-5EC5-47FF-93F1-7A072016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8BF69A-9D94-438D-9C30-CBFD1E77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E43F-8E5C-46A3-8812-D07E86A6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165644-84D5-4FDA-8867-71367D7D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6FC7C-422E-4A96-93F4-CB4C4105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07B1F6-4E4E-4394-9E21-082520D1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331BF9-3385-4898-8AD5-9583832D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20B767-4510-4D03-80DB-360F037F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3094CF-4B2B-4AD9-8B87-0F3064EC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2F3DBD-5DDE-49CD-8DED-83E3CE03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9BD362-FDD5-4BD8-B6DA-0EEEA592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812D38-3AAE-43D5-90AB-44B5020A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AA9A09-8A18-4452-A290-BB645753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127A-F6AB-40ED-AEAF-1A2E790A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C97063-3C2D-4EF7-979A-93FA53F0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C5F1D6-BAF1-4747-9716-F6F825A9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5672EF-A47B-4E45-BD4D-3CA08073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C26C72-5DFC-49FA-851F-2991DA46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A44315-E5D5-4B8B-AC89-625D3103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BD84E0-4109-4604-871C-5F07ABFA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C52D5A-3232-4F35-90AE-AF0C1A77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88D5CD-CA51-4BC7-BEC0-75076DD2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A898CA-05B6-4E85-8565-AEBC0BF8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1DCABF-7B0F-49EE-A691-FA9B42A0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B0B2-3FDD-48AD-84B8-DCAC5D01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992FB0-133A-4D14-A296-ACB36611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3ACCB5-7033-44FD-82C2-B17BB2F2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D22CB8-B951-4D40-8B06-D5BF52BC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E5987D-9B42-44FC-BA22-93C69CC0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4FD0AF-0074-4D41-A7C5-B4C284E8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E06555-7DF9-4499-BF11-8D90037A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4DBF0C-A54F-4A02-A448-FD3FF339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0E3233-99DA-4397-A02F-29551F3C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947F5D-5E61-4BF0-89F1-E016F533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507A0F-CEE4-4964-B48F-16B577A1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F8E7-EFB7-448E-8E14-5453EA69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90B031-FBD2-4AE5-9684-32A7DF80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8AE18C-E9A6-4A56-81FD-D2D2D642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4F7211-6E97-447D-B7E1-05AE34F7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733E2-93E2-4CBB-AC34-E0941124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6E53C-B092-4BD9-B39D-DD0C221B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228FD-446A-4BD1-8E87-256C7AE8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A6E80-6ECD-44D8-BFB8-5CCFEAD9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4B1-41BC-4CEB-AE7B-4CFD489D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603D3-33B1-447A-8042-B4291C83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D9434-8E77-48EE-BC82-1B62BF7D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ABA9-E4F4-445F-B443-E07C7489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7496A-5AB9-4564-92AE-174087BE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CFCB8-C6D4-4B40-A21B-DAB89529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8810E-8CAF-43DD-8BF9-18296658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58CB5-AA6C-4210-95F1-2106022D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8FB2A-2B44-430B-9992-9D1E47E9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43613-7632-4992-93D6-A6D647FC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CD2CC-9A63-416B-9967-9732D8A9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648-D2BA-4130-B353-34043420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AD26F-7227-45C2-A3AE-DF96E9DE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1DB5A-2F81-49A3-B18B-AA01BA90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8349A-1AF5-446B-BFE6-4E5F5383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5BD41-C1E7-4526-BC70-0C797172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593D8-FE97-4805-ADFA-DD484115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153FB-DFDF-4C64-A466-7FC68ED2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236FF-3A24-472B-93D2-5F6516EF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40E9-B4A5-40AB-9EA4-6043CA26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8C8C1-B96F-4C71-A2D2-83D739DF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05D47-48C7-43BB-94AA-94A7C93A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433-A905-4100-BBFF-9806B0EE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DCBAA-A7D4-464A-B036-0ED61E4B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C9E11-8394-4EEE-8816-1117D26A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1BD57-70CE-43EC-85DB-3F7192A3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6C12D-ACC4-4B6A-9311-7DD204A8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74EF6-4DB4-4B73-9EA2-3B6EBE84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79543-E321-4087-89C4-E2568EDD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2F62F-3F46-4A5D-96B2-8E002E7D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FB621-ED03-4234-ABB7-845642BB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439FF-B09F-45D0-AB7B-9E997BF1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3EAF2-A077-4618-B026-7BCFB1CE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1F6-A0C0-40A7-B8FD-3D3E2451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BB41D-C6AA-49E8-A8D5-4ECC5BFD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06AFD-9A6E-4480-8B39-7042161A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ED16B-554C-457A-BFF1-E2FBB2B5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3E444-4228-4C06-91B6-CDD9FC3A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3B746-F1E3-4FE7-BFF9-0A05F064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FB6CC-5FDE-4DAB-A82D-60CD586C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482C2-AB74-43FB-9F69-EB681163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1ED41-AEEB-4FA6-A126-BC7A14EC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A9021-E984-4D18-AC8D-589BD687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F2874-4BBE-4F5B-9AF1-368D73C3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CC0D-C017-4F9B-B899-5AA21089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373AD-CA87-4697-8CBA-6FDE3BD0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9483F-408E-429A-806F-D7898C28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C887A-1970-4826-8F08-2FC17397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876CD-26AD-44D5-B8D3-E7C75976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3019A-1694-46A0-BF3D-C542A315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963E6-2273-498C-9625-16C45947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4530C-66AC-4E6C-BB68-2112A6DA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E400F-251B-4495-8861-C9BAE709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95398-739E-4FCA-96ED-0126CDB0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DCB03-A3EA-4D2B-A04F-215C0730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8BE-5584-47B0-8AE2-063CDCD7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B7475-031E-45CF-BA3E-B1E85E41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858F2-ED6D-4594-8ECC-AC1EF80C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B30CB-92D8-4D0F-B0B9-C8F38E16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1602F-9AAA-490A-B429-AF51573B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77E0E-B2F1-498C-BF46-C2C37D8D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C992A-1875-4CFC-AD7A-E3425A5E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99FC9-749F-4C35-9125-02B4CD72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0D74F-8D16-4F72-BE09-55CCDB35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7589F-C2ED-401F-BC15-9AC135A3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634F6-7E48-42DE-96C6-F097604D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EB3-25C5-4C6D-8E77-7B190648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473DF-24C0-4574-B690-E36875BD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80FB8-3937-48FE-988A-4F626172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D2BA7-3AF4-43A8-BBE7-47920FC3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B9873-0DB0-4BB8-94A9-637E0B37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E9E90-4E33-46AD-9F51-29E5444B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96778-309A-467B-A094-9937F446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295FD-C1E4-4EFB-A60F-3C27BD92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D9EB0-5232-4F71-9DC7-1B01D5FB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317B1-CB60-40F4-B72B-D801CB1D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D777B-941B-4632-A4A2-C6617DFE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956D-CC7D-47D1-8F9D-A1FAA66C7D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F969-4957-49ED-ADDC-9B5A2DD747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22DC-90F3-49A0-BAE1-4FBDA2314C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4B76-38D4-4E5E-9D43-4E9DDAF9D3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0D57-65E4-44C3-89CF-ED2914D23F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F3A8-EBB2-461A-8D68-803ADA3495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D8FE-164A-4640-81AE-79729D2F58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C91F-2F1A-40A2-AA28-176C81126E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B74D-6A4F-413F-A7FB-A58A6DD4C9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7B4B-5631-4E4A-85F4-F4DA8F17DD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D4C8-981D-45BA-B4AC-742B4096BC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63C3-87AC-4700-8A07-928C2DC651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580A-2440-49DE-8BCF-F4EE54B344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ED13-8A1A-4A39-86D8-83D704AEAB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8F6F-BF88-46B2-8612-ADDA150CA4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AB4C-5AFD-4F31-A385-DE136D6AEF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1436-332F-4499-BAD2-48184758AA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9BE7-07C3-49B9-AA1F-50521BCDC8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381C-BAE4-470B-A8BC-33BDDF11DD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A42C-BE2B-4F21-A701-780D5B104F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5A5B-882B-4C2E-8C20-882B61E257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5D60-C1B1-4244-B00A-C6CEA8E474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A32F-3191-49C3-8553-0C13D0DA4D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4AF9-DB5D-48FE-895D-101CFC1287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60D4-D93E-4FC7-BA98-042BB542DA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8369-4FE0-45FC-B2CD-D2C242B0DA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1F45-46C4-48F3-BA80-818FDEF46A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5254-4091-4F62-9567-E04BD63CEB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CECB-49A0-4DB8-A610-16555D5FEB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FD23-105E-4257-B61A-17BD9FA659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A16A-6492-4335-B389-C070957DEA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C365-0F36-4CD3-8226-7495C5E035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EB31-3A2D-49E7-A7C1-9C7F806AD8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03C0-CB5F-46EE-8FFA-C4DDFEECA5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2CB3-CFAF-43AE-8B0C-025E74ECF5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1A01-D37D-486E-A460-4C2059A19A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C2F9-3E29-4D00-81D8-D493BDDB4C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0920-6E99-4F92-8B4E-B4DC9A39A4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4676-2560-445F-A350-08005A2663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951D-0E03-4A5C-A3D2-A68BC7EFD9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1814400" y="3009960"/>
            <a:ext cx="55152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79873" descr=""/>
          <p:cNvPicPr/>
          <p:nvPr/>
        </p:nvPicPr>
        <p:blipFill>
          <a:blip r:embed="rId1"/>
          <a:stretch/>
        </p:blipFill>
        <p:spPr>
          <a:xfrm>
            <a:off x="514440" y="1909800"/>
            <a:ext cx="8115120" cy="3038400"/>
          </a:xfrm>
          <a:prstGeom prst="rect">
            <a:avLst/>
          </a:prstGeom>
          <a:ln w="0">
            <a:noFill/>
          </a:ln>
        </p:spPr>
      </p:pic>
      <p:sp>
        <p:nvSpPr>
          <p:cNvPr id="1052" name="矩形 79874"/>
          <p:cNvSpPr/>
          <p:nvPr/>
        </p:nvSpPr>
        <p:spPr>
          <a:xfrm>
            <a:off x="7808760" y="3298680"/>
            <a:ext cx="41148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78849" descr=""/>
          <p:cNvPicPr/>
          <p:nvPr/>
        </p:nvPicPr>
        <p:blipFill>
          <a:blip r:embed="rId1"/>
          <a:stretch/>
        </p:blipFill>
        <p:spPr>
          <a:xfrm>
            <a:off x="490680" y="1962000"/>
            <a:ext cx="8162640" cy="2934000"/>
          </a:xfrm>
          <a:prstGeom prst="rect">
            <a:avLst/>
          </a:prstGeom>
          <a:ln w="0">
            <a:noFill/>
          </a:ln>
        </p:spPr>
      </p:pic>
      <p:sp>
        <p:nvSpPr>
          <p:cNvPr id="1054" name="矩形 78850"/>
          <p:cNvSpPr/>
          <p:nvPr/>
        </p:nvSpPr>
        <p:spPr>
          <a:xfrm>
            <a:off x="4808520" y="2717640"/>
            <a:ext cx="771480" cy="3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78851"/>
          <p:cNvSpPr/>
          <p:nvPr/>
        </p:nvSpPr>
        <p:spPr>
          <a:xfrm>
            <a:off x="2195640" y="3860640"/>
            <a:ext cx="115236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77825" descr=""/>
          <p:cNvPicPr/>
          <p:nvPr/>
        </p:nvPicPr>
        <p:blipFill>
          <a:blip r:embed="rId1"/>
          <a:stretch/>
        </p:blipFill>
        <p:spPr>
          <a:xfrm>
            <a:off x="447840" y="2243160"/>
            <a:ext cx="8248320" cy="2371680"/>
          </a:xfrm>
          <a:prstGeom prst="rect">
            <a:avLst/>
          </a:prstGeom>
          <a:ln w="0">
            <a:noFill/>
          </a:ln>
        </p:spPr>
      </p:pic>
      <p:sp>
        <p:nvSpPr>
          <p:cNvPr id="1057" name="矩形 77826"/>
          <p:cNvSpPr/>
          <p:nvPr/>
        </p:nvSpPr>
        <p:spPr>
          <a:xfrm>
            <a:off x="5560920" y="2924280"/>
            <a:ext cx="73980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77827"/>
          <p:cNvSpPr/>
          <p:nvPr/>
        </p:nvSpPr>
        <p:spPr>
          <a:xfrm>
            <a:off x="4389480" y="3524400"/>
            <a:ext cx="73980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76801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10520" cy="66672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76802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7829640" cy="3933720"/>
          </a:xfrm>
          <a:prstGeom prst="rect">
            <a:avLst/>
          </a:prstGeom>
          <a:ln w="0">
            <a:noFill/>
          </a:ln>
        </p:spPr>
      </p:pic>
      <p:sp>
        <p:nvSpPr>
          <p:cNvPr id="1061" name="矩形 76803"/>
          <p:cNvSpPr/>
          <p:nvPr/>
        </p:nvSpPr>
        <p:spPr>
          <a:xfrm>
            <a:off x="2808360" y="1916280"/>
            <a:ext cx="8269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76804"/>
          <p:cNvSpPr/>
          <p:nvPr/>
        </p:nvSpPr>
        <p:spPr>
          <a:xfrm>
            <a:off x="1465200" y="3678120"/>
            <a:ext cx="82728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76805"/>
          <p:cNvSpPr/>
          <p:nvPr/>
        </p:nvSpPr>
        <p:spPr>
          <a:xfrm>
            <a:off x="6437160" y="4878360"/>
            <a:ext cx="173520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89089" descr=""/>
          <p:cNvPicPr/>
          <p:nvPr/>
        </p:nvPicPr>
        <p:blipFill>
          <a:blip r:embed="rId1"/>
          <a:stretch/>
        </p:blipFill>
        <p:spPr>
          <a:xfrm>
            <a:off x="490680" y="1600200"/>
            <a:ext cx="8162640" cy="3657600"/>
          </a:xfrm>
          <a:prstGeom prst="rect">
            <a:avLst/>
          </a:prstGeom>
          <a:ln w="0">
            <a:noFill/>
          </a:ln>
        </p:spPr>
      </p:pic>
      <p:sp>
        <p:nvSpPr>
          <p:cNvPr id="1065" name="矩形 89090"/>
          <p:cNvSpPr/>
          <p:nvPr/>
        </p:nvSpPr>
        <p:spPr>
          <a:xfrm>
            <a:off x="3276720" y="4149720"/>
            <a:ext cx="73980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89091"/>
          <p:cNvSpPr/>
          <p:nvPr/>
        </p:nvSpPr>
        <p:spPr>
          <a:xfrm>
            <a:off x="3419640" y="4724280"/>
            <a:ext cx="7394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90113" descr=""/>
          <p:cNvPicPr/>
          <p:nvPr/>
        </p:nvPicPr>
        <p:blipFill>
          <a:blip r:embed="rId1"/>
          <a:stretch/>
        </p:blipFill>
        <p:spPr>
          <a:xfrm>
            <a:off x="519120" y="1990800"/>
            <a:ext cx="8105760" cy="2876400"/>
          </a:xfrm>
          <a:prstGeom prst="rect">
            <a:avLst/>
          </a:prstGeom>
          <a:ln w="0">
            <a:noFill/>
          </a:ln>
        </p:spPr>
      </p:pic>
      <p:sp>
        <p:nvSpPr>
          <p:cNvPr id="1068" name="矩形 90114"/>
          <p:cNvSpPr/>
          <p:nvPr/>
        </p:nvSpPr>
        <p:spPr>
          <a:xfrm>
            <a:off x="2236680" y="3789360"/>
            <a:ext cx="125568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90115"/>
          <p:cNvSpPr/>
          <p:nvPr/>
        </p:nvSpPr>
        <p:spPr>
          <a:xfrm>
            <a:off x="3017880" y="4361040"/>
            <a:ext cx="1914480" cy="38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91137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0773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92161" descr=""/>
          <p:cNvPicPr/>
          <p:nvPr/>
        </p:nvPicPr>
        <p:blipFill>
          <a:blip r:embed="rId1"/>
          <a:stretch/>
        </p:blipFill>
        <p:spPr>
          <a:xfrm>
            <a:off x="709560" y="1190520"/>
            <a:ext cx="7724880" cy="4476960"/>
          </a:xfrm>
          <a:prstGeom prst="rect">
            <a:avLst/>
          </a:prstGeom>
          <a:ln w="0">
            <a:noFill/>
          </a:ln>
        </p:spPr>
      </p:pic>
      <p:sp>
        <p:nvSpPr>
          <p:cNvPr id="1072" name="矩形 92162"/>
          <p:cNvSpPr/>
          <p:nvPr/>
        </p:nvSpPr>
        <p:spPr>
          <a:xfrm>
            <a:off x="3846600" y="1844640"/>
            <a:ext cx="389412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92163"/>
          <p:cNvSpPr/>
          <p:nvPr/>
        </p:nvSpPr>
        <p:spPr>
          <a:xfrm>
            <a:off x="5580000" y="5229360"/>
            <a:ext cx="151308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图片 93185" descr=""/>
          <p:cNvPicPr/>
          <p:nvPr/>
        </p:nvPicPr>
        <p:blipFill>
          <a:blip r:embed="rId1"/>
          <a:stretch/>
        </p:blipFill>
        <p:spPr>
          <a:xfrm>
            <a:off x="733320" y="2190600"/>
            <a:ext cx="7677360" cy="2476800"/>
          </a:xfrm>
          <a:prstGeom prst="rect">
            <a:avLst/>
          </a:prstGeom>
          <a:ln w="0">
            <a:noFill/>
          </a:ln>
        </p:spPr>
      </p:pic>
      <p:sp>
        <p:nvSpPr>
          <p:cNvPr id="1075" name="矩形 93186"/>
          <p:cNvSpPr/>
          <p:nvPr/>
        </p:nvSpPr>
        <p:spPr>
          <a:xfrm>
            <a:off x="6056280" y="2852640"/>
            <a:ext cx="11797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93187"/>
          <p:cNvSpPr/>
          <p:nvPr/>
        </p:nvSpPr>
        <p:spPr>
          <a:xfrm>
            <a:off x="4199040" y="4043520"/>
            <a:ext cx="8046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88065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409920" cy="72396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88066" descr=""/>
          <p:cNvPicPr/>
          <p:nvPr/>
        </p:nvPicPr>
        <p:blipFill>
          <a:blip r:embed="rId2"/>
          <a:stretch/>
        </p:blipFill>
        <p:spPr>
          <a:xfrm>
            <a:off x="347760" y="2038320"/>
            <a:ext cx="8448480" cy="2781360"/>
          </a:xfrm>
          <a:prstGeom prst="rect">
            <a:avLst/>
          </a:prstGeom>
          <a:ln w="0">
            <a:noFill/>
          </a:ln>
        </p:spPr>
      </p:pic>
      <p:sp>
        <p:nvSpPr>
          <p:cNvPr id="1025" name="矩形 88067"/>
          <p:cNvSpPr/>
          <p:nvPr/>
        </p:nvSpPr>
        <p:spPr>
          <a:xfrm>
            <a:off x="5435640" y="1989000"/>
            <a:ext cx="9079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8068"/>
          <p:cNvSpPr/>
          <p:nvPr/>
        </p:nvSpPr>
        <p:spPr>
          <a:xfrm>
            <a:off x="2863800" y="2408400"/>
            <a:ext cx="70020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8069"/>
          <p:cNvSpPr/>
          <p:nvPr/>
        </p:nvSpPr>
        <p:spPr>
          <a:xfrm>
            <a:off x="2749680" y="2808360"/>
            <a:ext cx="699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8070"/>
          <p:cNvSpPr/>
          <p:nvPr/>
        </p:nvSpPr>
        <p:spPr>
          <a:xfrm>
            <a:off x="4083120" y="3218040"/>
            <a:ext cx="99360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8071"/>
          <p:cNvSpPr/>
          <p:nvPr/>
        </p:nvSpPr>
        <p:spPr>
          <a:xfrm>
            <a:off x="5702400" y="3227400"/>
            <a:ext cx="99360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8072"/>
          <p:cNvSpPr/>
          <p:nvPr/>
        </p:nvSpPr>
        <p:spPr>
          <a:xfrm>
            <a:off x="3835440" y="4017960"/>
            <a:ext cx="66528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8073"/>
          <p:cNvSpPr/>
          <p:nvPr/>
        </p:nvSpPr>
        <p:spPr>
          <a:xfrm>
            <a:off x="7435800" y="4027320"/>
            <a:ext cx="1096920" cy="3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8074"/>
          <p:cNvSpPr/>
          <p:nvPr/>
        </p:nvSpPr>
        <p:spPr>
          <a:xfrm>
            <a:off x="3673440" y="4427640"/>
            <a:ext cx="61128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87041" descr=""/>
          <p:cNvPicPr/>
          <p:nvPr/>
        </p:nvPicPr>
        <p:blipFill>
          <a:blip r:embed="rId1"/>
          <a:stretch/>
        </p:blipFill>
        <p:spPr>
          <a:xfrm>
            <a:off x="333360" y="1238400"/>
            <a:ext cx="8477280" cy="4381200"/>
          </a:xfrm>
          <a:prstGeom prst="rect">
            <a:avLst/>
          </a:prstGeom>
          <a:ln w="0">
            <a:noFill/>
          </a:ln>
        </p:spPr>
      </p:pic>
      <p:sp>
        <p:nvSpPr>
          <p:cNvPr id="1034" name="矩形 87042"/>
          <p:cNvSpPr/>
          <p:nvPr/>
        </p:nvSpPr>
        <p:spPr>
          <a:xfrm>
            <a:off x="1397160" y="2855880"/>
            <a:ext cx="6537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87043"/>
          <p:cNvSpPr/>
          <p:nvPr/>
        </p:nvSpPr>
        <p:spPr>
          <a:xfrm>
            <a:off x="3311640" y="3246480"/>
            <a:ext cx="5396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87044"/>
          <p:cNvSpPr/>
          <p:nvPr/>
        </p:nvSpPr>
        <p:spPr>
          <a:xfrm>
            <a:off x="8101080" y="3716280"/>
            <a:ext cx="4111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86017" descr=""/>
          <p:cNvPicPr/>
          <p:nvPr/>
        </p:nvPicPr>
        <p:blipFill>
          <a:blip r:embed="rId1"/>
          <a:stretch/>
        </p:blipFill>
        <p:spPr>
          <a:xfrm>
            <a:off x="333360" y="2238480"/>
            <a:ext cx="8477280" cy="2381040"/>
          </a:xfrm>
          <a:prstGeom prst="rect">
            <a:avLst/>
          </a:prstGeom>
          <a:ln w="0">
            <a:noFill/>
          </a:ln>
        </p:spPr>
      </p:pic>
      <p:sp>
        <p:nvSpPr>
          <p:cNvPr id="1038" name="矩形 86018"/>
          <p:cNvSpPr/>
          <p:nvPr/>
        </p:nvSpPr>
        <p:spPr>
          <a:xfrm>
            <a:off x="6084720" y="2708280"/>
            <a:ext cx="41148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84993" descr=""/>
          <p:cNvPicPr/>
          <p:nvPr/>
        </p:nvPicPr>
        <p:blipFill>
          <a:blip r:embed="rId1"/>
          <a:stretch/>
        </p:blipFill>
        <p:spPr>
          <a:xfrm>
            <a:off x="324000" y="1576440"/>
            <a:ext cx="8496000" cy="3705120"/>
          </a:xfrm>
          <a:prstGeom prst="rect">
            <a:avLst/>
          </a:prstGeom>
          <a:ln w="0">
            <a:noFill/>
          </a:ln>
        </p:spPr>
      </p:pic>
      <p:sp>
        <p:nvSpPr>
          <p:cNvPr id="1040" name="矩形 84994"/>
          <p:cNvSpPr/>
          <p:nvPr/>
        </p:nvSpPr>
        <p:spPr>
          <a:xfrm>
            <a:off x="903240" y="2451240"/>
            <a:ext cx="4111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84995"/>
          <p:cNvSpPr/>
          <p:nvPr/>
        </p:nvSpPr>
        <p:spPr>
          <a:xfrm>
            <a:off x="4599000" y="2451240"/>
            <a:ext cx="4111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84996"/>
          <p:cNvSpPr/>
          <p:nvPr/>
        </p:nvSpPr>
        <p:spPr>
          <a:xfrm>
            <a:off x="912960" y="2860560"/>
            <a:ext cx="4111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83969" descr=""/>
          <p:cNvPicPr/>
          <p:nvPr/>
        </p:nvPicPr>
        <p:blipFill>
          <a:blip r:embed="rId1"/>
          <a:stretch/>
        </p:blipFill>
        <p:spPr>
          <a:xfrm>
            <a:off x="361800" y="2567160"/>
            <a:ext cx="8420400" cy="1723680"/>
          </a:xfrm>
          <a:prstGeom prst="rect">
            <a:avLst/>
          </a:prstGeom>
          <a:ln w="0">
            <a:noFill/>
          </a:ln>
        </p:spPr>
      </p:pic>
      <p:sp>
        <p:nvSpPr>
          <p:cNvPr id="1044" name="矩形 83970"/>
          <p:cNvSpPr/>
          <p:nvPr/>
        </p:nvSpPr>
        <p:spPr>
          <a:xfrm>
            <a:off x="8101080" y="2924280"/>
            <a:ext cx="4111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82945" descr=""/>
          <p:cNvPicPr/>
          <p:nvPr/>
        </p:nvPicPr>
        <p:blipFill>
          <a:blip r:embed="rId1"/>
          <a:stretch/>
        </p:blipFill>
        <p:spPr>
          <a:xfrm>
            <a:off x="500040" y="776160"/>
            <a:ext cx="8143920" cy="5305680"/>
          </a:xfrm>
          <a:prstGeom prst="rect">
            <a:avLst/>
          </a:prstGeom>
          <a:ln w="0">
            <a:noFill/>
          </a:ln>
        </p:spPr>
      </p:pic>
      <p:sp>
        <p:nvSpPr>
          <p:cNvPr id="1046" name="矩形 82946"/>
          <p:cNvSpPr/>
          <p:nvPr/>
        </p:nvSpPr>
        <p:spPr>
          <a:xfrm>
            <a:off x="7812000" y="2060640"/>
            <a:ext cx="4111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81921" descr=""/>
          <p:cNvPicPr/>
          <p:nvPr/>
        </p:nvPicPr>
        <p:blipFill>
          <a:blip r:embed="rId1"/>
          <a:stretch/>
        </p:blipFill>
        <p:spPr>
          <a:xfrm>
            <a:off x="509760" y="1409760"/>
            <a:ext cx="8124480" cy="4038480"/>
          </a:xfrm>
          <a:prstGeom prst="rect">
            <a:avLst/>
          </a:prstGeom>
          <a:ln w="0">
            <a:noFill/>
          </a:ln>
        </p:spPr>
      </p:pic>
      <p:sp>
        <p:nvSpPr>
          <p:cNvPr id="1048" name="矩形 81922"/>
          <p:cNvSpPr/>
          <p:nvPr/>
        </p:nvSpPr>
        <p:spPr>
          <a:xfrm>
            <a:off x="7812000" y="2637000"/>
            <a:ext cx="4111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80897" descr=""/>
          <p:cNvPicPr/>
          <p:nvPr/>
        </p:nvPicPr>
        <p:blipFill>
          <a:blip r:embed="rId1"/>
          <a:stretch/>
        </p:blipFill>
        <p:spPr>
          <a:xfrm>
            <a:off x="495360" y="809640"/>
            <a:ext cx="8153280" cy="5238720"/>
          </a:xfrm>
          <a:prstGeom prst="rect">
            <a:avLst/>
          </a:prstGeom>
          <a:ln w="0">
            <a:noFill/>
          </a:ln>
        </p:spPr>
      </p:pic>
      <p:sp>
        <p:nvSpPr>
          <p:cNvPr id="1050" name="矩形 80898"/>
          <p:cNvSpPr/>
          <p:nvPr/>
        </p:nvSpPr>
        <p:spPr>
          <a:xfrm>
            <a:off x="7885080" y="1517760"/>
            <a:ext cx="4111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35:08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